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3C6-BF8C-486B-84B4-569DDCC5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AF3-34EC-48CA-B112-8BDDCD9C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36F-5968-47E6-B9E8-607BC32F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B53-E88F-46A2-AA0D-1D31BFEF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6D43-0259-407D-A795-EE8D185A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9DC8-AAD4-4C96-847E-0E17CDF2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9D10-8BEA-449D-8779-5F8F63A3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77EC-F43C-4CB3-921A-4F505FC4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89FF-4420-4103-9043-90BF161E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7C88-D58C-4266-91FB-3FCA9E0D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B55F-E299-4FB0-821D-87B1D17C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08FB-B58A-4B4A-A7B0-1DE556A0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9C42-8107-4A28-9606-4F45EA70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9B88-E7C4-4BA0-BF79-BD9E20CF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2426-FF11-4F1D-B0D3-C4CCC4D9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6403-B7C7-4F16-A312-4458EEB5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7D63-941A-4C62-AC51-FCC2B075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655-6DD5-487C-B6ED-751CB6AC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19F-BDFA-4013-8D5B-92D10FF3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528-9ABC-41A4-A1EA-0235DA32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D05-8C57-4716-8CEC-7CABE8A8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ECA-72AD-42AD-9442-F3421295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565-7F94-4A54-AEAA-53EDE4A3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E85-BE72-4696-90C2-75EC541D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7018-C5BC-4CEF-902F-F3C6021C38E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CE47-AC34-4099-AD63-6A8B146D444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econdlife.com/" TargetMode="External"/><Relationship Id="rId2" Type="http://schemas.openxmlformats.org/officeDocument/2006/relationships/hyperlink" Target="http://www.whyville.net/smmk/nice" TargetMode="External"/><Relationship Id="rId3" Type="http://schemas.openxmlformats.org/officeDocument/2006/relationships/hyperlink" Target="http://www.virtualworldsreview.com/" TargetMode="External"/><Relationship Id="rId4" Type="http://schemas.openxmlformats.org/officeDocument/2006/relationships/hyperlink" Target="http://www.virtualworldsreview.com/" TargetMode="External"/><Relationship Id="rId5" Type="http://schemas.openxmlformats.org/officeDocument/2006/relationships/hyperlink" Target="http://www.virtualworldsreview.com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2060640"/>
            <a:ext cx="67658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ffff00"/>
                </a:solidFill>
                <a:latin typeface="Arial"/>
              </a:rPr>
              <a:t>Go Cyber</a:t>
            </a:r>
            <a:endParaRPr b="0" lang="en-US" sz="1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reating Your Own Cyber-Communit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e Culmination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329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orm into groups of 4, and go through this proces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1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iscuss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all of your different respon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ublis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a collection of these, and place your 1</a:t>
            </a:r>
            <a:r>
              <a:rPr b="1" lang="en-US" sz="28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draft of a CyberCommunity on a large she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3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hop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for ideas from the other groups in the 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Refine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and finish off your CyberCommunity plan back in your own gro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0200" y="282600"/>
            <a:ext cx="74134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e Scenario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 cyber-community is a group of people who often share common interests, and who interact onl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hey sometimes construct a virtual world, and encourage others who share these common interests to join the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yber-communities fulfil specific needs for the people who are involved with the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any cyber-communities already exist around the worl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757080" y="-747720"/>
            <a:ext cx="10585440" cy="8640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35280" y="0"/>
            <a:ext cx="4105440" cy="1557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one example. It’s called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Life, and is based o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ction of land in New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yberworld addresse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You’ll find Second Life at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secondlife.com#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nother neat world is 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whyville.net/smmk/n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For an overview on lots of others, have a look a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www.virtualworldsreview.com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Your Mini-Quest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Design a fantastic cyber-community in which you would enjoy being involved, and develop some ongoing activities and the rules of engagement for this group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2636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Some Guiding Questions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920" y="2104560"/>
            <a:ext cx="756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What forms of cyber-community already exist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Would cyber-communities appeal to you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f you created a cyber community, what form would it take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ic Groundrules of a cyber communit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nyone can join (in most cas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 specific interest usually drives its exist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n online virtual world is sometimes the basis for the commun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ll members can contribute to various blogs, and sometimes can contribute to the online development of the cyber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thics and respect for all members are importa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e Journey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7706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llate some key info on Second Life. In groups of 3, use a Simple Jigsaw to respond to these question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Q. What’s the basic structur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Q. What encourages people to joi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Q. Why could you be interested in joining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e Journey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8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Draw up a Venn Diagram, and compare present day communities, with a cybercommun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et up a Paired Interview, and use these question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Q.1. Would cyber-communities appeal to you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Q.2. If you created a cyber community, what form would it tak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Record all of your answ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Ryan</cp:lastModifiedBy>
  <dcterms:modified xsi:type="dcterms:W3CDTF">2007-04-30T22:32:20Z</dcterms:modified>
  <cp:revision>26</cp:revision>
  <dc:subject/>
  <dc:title>PowerPoint Presentation</dc:title>
</cp:coreProperties>
</file>